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R - </a:t>
            </a:r>
            <a:fld id="{F82932FF-9514-4EA6-9AD3-00DB9098402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R - </a:t>
            </a:r>
            <a:fld id="{1D4D6D3A-9176-4553-97BB-74D09B2C351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8.wmf"/><Relationship Id="rId1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8.wmf"/><Relationship Id="rId1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Basic Concepts of Algeb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istance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and 3 on a number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2360" y="56894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927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4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interval not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29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458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44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727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828800" y="851040"/>
          <a:ext cx="2522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51040"/>
                    <a:ext cx="2522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905120" y="2336760"/>
          <a:ext cx="1143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233676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1080" y="3441600"/>
          <a:ext cx="117648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441600"/>
                    <a:ext cx="11764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4584600"/>
          <a:ext cx="114300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8460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057400" y="5727600"/>
          <a:ext cx="1108080" cy="67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727600"/>
                    <a:ext cx="11080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09480" y="927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4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interval not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9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47920" y="458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44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5727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851040"/>
          <a:ext cx="2522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51040"/>
                    <a:ext cx="2522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05120" y="2336760"/>
          <a:ext cx="1143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233676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981080" y="3441600"/>
          <a:ext cx="117648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441600"/>
                    <a:ext cx="11764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4584600"/>
          <a:ext cx="114300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8460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057400" y="5727600"/>
          <a:ext cx="1108080" cy="67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727600"/>
                    <a:ext cx="11080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371600" y="24130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479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25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47920" y="4137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99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5280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429000" y="250920"/>
          <a:ext cx="121140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50920"/>
                    <a:ext cx="1211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057400" y="1901880"/>
          <a:ext cx="5716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01880"/>
                    <a:ext cx="5716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057400" y="3070080"/>
          <a:ext cx="70488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070080"/>
                    <a:ext cx="7048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981080" y="3908520"/>
          <a:ext cx="639720" cy="80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908520"/>
                    <a:ext cx="639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057400" y="5051520"/>
          <a:ext cx="804960" cy="104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051520"/>
                    <a:ext cx="8049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479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5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47920" y="4137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299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80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429000" y="250920"/>
          <a:ext cx="121140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50920"/>
                    <a:ext cx="1211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057400" y="1901880"/>
          <a:ext cx="5716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01880"/>
                    <a:ext cx="5716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057400" y="3070080"/>
          <a:ext cx="70488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070080"/>
                    <a:ext cx="7048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981080" y="3908520"/>
          <a:ext cx="639720" cy="80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908520"/>
                    <a:ext cx="639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057400" y="5051520"/>
          <a:ext cx="804960" cy="104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051520"/>
                    <a:ext cx="8049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409760" y="3048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476520" y="304920"/>
          <a:ext cx="228600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6520" y="30492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476520" y="304920"/>
          <a:ext cx="228600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6520" y="30492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564000" y="349200"/>
          <a:ext cx="24559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49200"/>
                    <a:ext cx="2455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564000" y="349200"/>
          <a:ext cx="24559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49200"/>
                    <a:ext cx="2455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371600" y="4419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and write scientific notation for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368960" y="768240"/>
          <a:ext cx="3665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768240"/>
                    <a:ext cx="3665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981080" y="2254320"/>
          <a:ext cx="19162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254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7400" y="3397320"/>
          <a:ext cx="191628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97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057400" y="4540320"/>
          <a:ext cx="154620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4540320"/>
                    <a:ext cx="1546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057400" y="5645160"/>
          <a:ext cx="2017800" cy="538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645160"/>
                    <a:ext cx="2017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R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sic Concepts of Algebr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1333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l-Numb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Exponents, Scientific Notation, and Order of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, Subtraction, and Multiplication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s of Equation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Expres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cal Notation and Rational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and write scientific notation for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68960" y="768240"/>
          <a:ext cx="3665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768240"/>
                    <a:ext cx="3665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981080" y="2254320"/>
          <a:ext cx="19162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254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057400" y="3397320"/>
          <a:ext cx="191628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97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057400" y="4540320"/>
          <a:ext cx="154620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4540320"/>
                    <a:ext cx="1546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057400" y="5645160"/>
          <a:ext cx="2017800" cy="538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645160"/>
                    <a:ext cx="2017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422360" y="22795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66816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8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039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432576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82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546876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505320" y="243000"/>
          <a:ext cx="218592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43000"/>
                    <a:ext cx="21859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66816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28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2039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447920" y="432576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182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546876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43000"/>
          <a:ext cx="218592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43000"/>
                    <a:ext cx="21859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1447920" y="55450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egree of the polynom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947960" y="958680"/>
          <a:ext cx="22543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958680"/>
                    <a:ext cx="225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egree of the polynom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47960" y="958680"/>
          <a:ext cx="22543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958680"/>
                    <a:ext cx="225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71600" y="3473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43280" y="2203560"/>
          <a:ext cx="329544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2203560"/>
                    <a:ext cx="3295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057400" y="3321000"/>
          <a:ext cx="32958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21000"/>
                    <a:ext cx="3295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2073240" y="4464000"/>
          <a:ext cx="326232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4464000"/>
                    <a:ext cx="3262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075040" y="5581800"/>
          <a:ext cx="3227040" cy="53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581800"/>
                    <a:ext cx="322704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271680" y="324000"/>
          <a:ext cx="5415120" cy="73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1680" y="324000"/>
                    <a:ext cx="541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943280" y="2203560"/>
          <a:ext cx="329544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2203560"/>
                    <a:ext cx="3295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057400" y="3321000"/>
          <a:ext cx="32958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21000"/>
                    <a:ext cx="3295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073240" y="4464000"/>
          <a:ext cx="326232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4464000"/>
                    <a:ext cx="3262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2075040" y="5581800"/>
          <a:ext cx="3227040" cy="53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581800"/>
                    <a:ext cx="322704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271680" y="324000"/>
          <a:ext cx="5415120" cy="73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1680" y="324000"/>
                    <a:ext cx="541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583080" y="295200"/>
          <a:ext cx="2589120" cy="6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295200"/>
                    <a:ext cx="258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057400" y="2178000"/>
          <a:ext cx="1984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178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019240" y="3295800"/>
          <a:ext cx="1411200" cy="53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19240" y="3295800"/>
                    <a:ext cx="141120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981080" y="4464000"/>
          <a:ext cx="19843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019240" y="5581800"/>
          <a:ext cx="1984320" cy="53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19240" y="5581800"/>
                    <a:ext cx="1984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583080" y="295200"/>
          <a:ext cx="2589120" cy="6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295200"/>
                    <a:ext cx="258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2057400" y="2178000"/>
          <a:ext cx="1984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178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019240" y="3295800"/>
          <a:ext cx="1411200" cy="53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19240" y="3295800"/>
                    <a:ext cx="141120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1981080" y="4464000"/>
          <a:ext cx="19843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2019240" y="5581800"/>
          <a:ext cx="1984320" cy="53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19240" y="5581800"/>
                    <a:ext cx="1984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1384200" y="4489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09480" y="728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271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2100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447920" y="4386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2432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5529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3618000" y="228600"/>
          <a:ext cx="17161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0" y="228600"/>
                    <a:ext cx="1716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981080" y="2176560"/>
          <a:ext cx="1244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76560"/>
                    <a:ext cx="1244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901880" y="3260880"/>
          <a:ext cx="164628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1880" y="3260880"/>
                    <a:ext cx="16462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1905120" y="4462560"/>
          <a:ext cx="26575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446256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981080" y="5567400"/>
          <a:ext cx="265752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56740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349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72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nteg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4255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55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05440" y="13320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13320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057400" y="2330280"/>
          <a:ext cx="1225440" cy="61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330280"/>
                    <a:ext cx="1225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32446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32446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81080" y="5454720"/>
          <a:ext cx="112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54720"/>
                    <a:ext cx="112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728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3880" y="271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2100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447920" y="4386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32432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5529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618000" y="228600"/>
          <a:ext cx="17161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0" y="228600"/>
                    <a:ext cx="1716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981080" y="2176560"/>
          <a:ext cx="1244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76560"/>
                    <a:ext cx="1244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01880" y="3260880"/>
          <a:ext cx="164628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1880" y="3260880"/>
                    <a:ext cx="16462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05120" y="4462560"/>
          <a:ext cx="26575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446256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1981080" y="5567400"/>
          <a:ext cx="265752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56740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1447920" y="560556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608280" y="228600"/>
          <a:ext cx="1649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8280" y="228600"/>
                    <a:ext cx="1649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1914480" y="2144880"/>
          <a:ext cx="137952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14480" y="2144880"/>
                    <a:ext cx="1379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981080" y="3270240"/>
          <a:ext cx="21495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70240"/>
                    <a:ext cx="214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981080" y="4464000"/>
          <a:ext cx="21877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2187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057400" y="5530680"/>
          <a:ext cx="2152800" cy="605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530680"/>
                    <a:ext cx="2152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608280" y="228600"/>
          <a:ext cx="1649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8280" y="228600"/>
                    <a:ext cx="1649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914480" y="2144880"/>
          <a:ext cx="137952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14480" y="2144880"/>
                    <a:ext cx="1379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981080" y="3270240"/>
          <a:ext cx="21495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70240"/>
                    <a:ext cx="214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981080" y="4464000"/>
          <a:ext cx="21877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2187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057400" y="5530680"/>
          <a:ext cx="2152800" cy="605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530680"/>
                    <a:ext cx="2152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9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9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8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8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2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49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72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nteg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4255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55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05440" y="13320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13320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057400" y="2330280"/>
          <a:ext cx="1225440" cy="61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330280"/>
                    <a:ext cx="1225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133720" y="32446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32446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981080" y="5454720"/>
          <a:ext cx="112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54720"/>
                    <a:ext cx="112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384200" y="4495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2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272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                                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272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                                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09760" y="577224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10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10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057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2057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59119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49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rration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47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05440" y="20952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20952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006640" y="3537000"/>
          <a:ext cx="122544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6640" y="3537000"/>
                    <a:ext cx="1225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57400" y="23302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3302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19320" y="2019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78040" y="4565520"/>
          <a:ext cx="1398600" cy="6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040" y="4565520"/>
                    <a:ext cx="1398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1905120" y="3244680"/>
          <a:ext cx="57132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24468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905120" y="2025720"/>
          <a:ext cx="7938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2025720"/>
                    <a:ext cx="793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778040" y="4565520"/>
          <a:ext cx="1398600" cy="6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040" y="4565520"/>
                    <a:ext cx="1398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1905120" y="3244680"/>
          <a:ext cx="57132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24468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1905120" y="2025720"/>
          <a:ext cx="7938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2025720"/>
                    <a:ext cx="793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1219320" y="4616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048120" y="657360"/>
          <a:ext cx="371160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657360"/>
                    <a:ext cx="3711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1981080" y="3124080"/>
          <a:ext cx="19004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1900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1828800" y="4267080"/>
          <a:ext cx="282240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267080"/>
                    <a:ext cx="28224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1828800" y="5513400"/>
          <a:ext cx="282240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13400"/>
                    <a:ext cx="2822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23880" y="92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3048120" y="657360"/>
          <a:ext cx="371160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657360"/>
                    <a:ext cx="3711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1981080" y="3124080"/>
          <a:ext cx="19004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1900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828800" y="4267080"/>
          <a:ext cx="282240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267080"/>
                    <a:ext cx="28224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828800" y="5513400"/>
          <a:ext cx="282240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13400"/>
                    <a:ext cx="2822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1295280" y="3276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2805120" y="657360"/>
          <a:ext cx="419724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5120" y="657360"/>
                    <a:ext cx="41972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81080" y="3124080"/>
          <a:ext cx="95112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951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981080" y="4267080"/>
          <a:ext cx="1984320" cy="97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267080"/>
                    <a:ext cx="19843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1828800" y="5486400"/>
          <a:ext cx="2906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486400"/>
                    <a:ext cx="2906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805120" y="657360"/>
          <a:ext cx="419724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5120" y="657360"/>
                    <a:ext cx="41972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1981080" y="3124080"/>
          <a:ext cx="95112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951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981080" y="4267080"/>
          <a:ext cx="1984320" cy="97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267080"/>
                    <a:ext cx="19843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1828800" y="5486400"/>
          <a:ext cx="2906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486400"/>
                    <a:ext cx="2906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219320" y="4495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93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819520" y="673200"/>
          <a:ext cx="416880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673200"/>
                    <a:ext cx="416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1981080" y="2057400"/>
          <a:ext cx="78264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93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819520" y="673200"/>
          <a:ext cx="416880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673200"/>
                    <a:ext cx="416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981080" y="2057400"/>
          <a:ext cx="78264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1219320" y="5638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139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2819520" y="749160"/>
          <a:ext cx="38653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749160"/>
                    <a:ext cx="3865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1905120" y="198108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981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49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rration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47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005440" y="20952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20952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006640" y="3537000"/>
          <a:ext cx="122544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6640" y="3537000"/>
                    <a:ext cx="1225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7400" y="23302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3302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397160" y="35434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39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819520" y="749160"/>
          <a:ext cx="38653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749160"/>
                    <a:ext cx="3865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1905120" y="198108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981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219320" y="2133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523880" y="425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3886200" y="0"/>
          <a:ext cx="103500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0"/>
                    <a:ext cx="1035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81080" y="3125880"/>
          <a:ext cx="782640" cy="86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5880"/>
                    <a:ext cx="782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1905120" y="5486400"/>
          <a:ext cx="97776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486400"/>
                    <a:ext cx="977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2127240" y="1981080"/>
          <a:ext cx="3366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7240" y="1981080"/>
                    <a:ext cx="3366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1814400" y="4238640"/>
          <a:ext cx="111780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14400" y="4238640"/>
                    <a:ext cx="11178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23880" y="425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3886200" y="0"/>
          <a:ext cx="103500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0"/>
                    <a:ext cx="1035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1981080" y="3125880"/>
          <a:ext cx="782640" cy="86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5880"/>
                    <a:ext cx="782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1905120" y="5486400"/>
          <a:ext cx="97776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486400"/>
                    <a:ext cx="977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2127240" y="1981080"/>
          <a:ext cx="3366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7240" y="1981080"/>
                    <a:ext cx="3366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1814400" y="4238640"/>
          <a:ext cx="111780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14400" y="4238640"/>
                    <a:ext cx="11178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1295280" y="5638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1828800" y="3276720"/>
          <a:ext cx="1312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76720"/>
                    <a:ext cx="131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1828800" y="5486400"/>
          <a:ext cx="134136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41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1752480" y="1905120"/>
          <a:ext cx="13734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905120"/>
                    <a:ext cx="1373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1752480" y="4267080"/>
          <a:ext cx="11732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4267080"/>
                    <a:ext cx="11732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1752480" y="3276720"/>
          <a:ext cx="1312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276720"/>
                    <a:ext cx="131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1828800" y="5486400"/>
          <a:ext cx="134136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41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1752480" y="1905120"/>
          <a:ext cx="13734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905120"/>
                    <a:ext cx="1373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1787400" y="4224240"/>
          <a:ext cx="11732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7400" y="4224240"/>
                    <a:ext cx="11732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1219320" y="3276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1744560" y="3276720"/>
          <a:ext cx="148140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4560" y="3276720"/>
                    <a:ext cx="148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1828800" y="5486400"/>
          <a:ext cx="131292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129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1779480" y="1905120"/>
          <a:ext cx="13176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79480" y="1905120"/>
                    <a:ext cx="1317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"/>
          <p:cNvGraphicFramePr/>
          <p:nvPr/>
        </p:nvGraphicFramePr>
        <p:xfrm>
          <a:off x="1828800" y="4267080"/>
          <a:ext cx="15350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267080"/>
                    <a:ext cx="1535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1744560" y="3276720"/>
          <a:ext cx="148140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4560" y="3276720"/>
                    <a:ext cx="148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1828800" y="5486400"/>
          <a:ext cx="131292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129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1779480" y="1905120"/>
          <a:ext cx="13176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79480" y="1905120"/>
                    <a:ext cx="1317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1828800" y="4267080"/>
          <a:ext cx="15350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267080"/>
                    <a:ext cx="1535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4" name=""/>
          <p:cNvSpPr/>
          <p:nvPr/>
        </p:nvSpPr>
        <p:spPr>
          <a:xfrm>
            <a:off x="1244520" y="21844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"/>
          <p:cNvGraphicFramePr/>
          <p:nvPr/>
        </p:nvGraphicFramePr>
        <p:xfrm>
          <a:off x="1828800" y="4191120"/>
          <a:ext cx="72864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191120"/>
                    <a:ext cx="728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6858000" y="380880"/>
          <a:ext cx="685800" cy="41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0" y="380880"/>
                    <a:ext cx="685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1828800" y="4191120"/>
          <a:ext cx="72864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191120"/>
                    <a:ext cx="728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6858000" y="380880"/>
          <a:ext cx="685800" cy="41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0" y="380880"/>
                    <a:ext cx="685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1219320" y="3276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6719760" y="343080"/>
          <a:ext cx="7016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9760" y="343080"/>
                    <a:ext cx="701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954080" y="4232160"/>
          <a:ext cx="47628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4080" y="4232160"/>
                    <a:ext cx="4762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496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68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639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407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59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9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29000" y="331920"/>
          <a:ext cx="137160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31920"/>
                    <a:ext cx="13716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81080" y="4154400"/>
          <a:ext cx="153540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154400"/>
                    <a:ext cx="1535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5068800"/>
          <a:ext cx="1143000" cy="117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5068800"/>
                    <a:ext cx="1143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6719760" y="343080"/>
          <a:ext cx="7016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9760" y="343080"/>
                    <a:ext cx="701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1954080" y="4232160"/>
          <a:ext cx="47628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4080" y="4232160"/>
                    <a:ext cx="4762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1257480" y="5664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09480" y="577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523880" y="120600"/>
            <a:ext cx="7620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4-foot ladder leans up against the side of a building. Its base is 2 ft from the wall of the building. How high up the wall does the ladder reach? Round to the nearest tenth of a foo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2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1295280" y="49975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3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95280" y="4083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22.6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95280" y="591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3.9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09480" y="577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120600"/>
            <a:ext cx="7620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4-foot ladder leans up against the side of a building. Its base is 2 ft from the wall of the building. How high up the wall does the ladder reach? Round to the nearest tenth of a foo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9528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2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295280" y="49975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3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5280" y="4083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22.6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95280" y="591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3.9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57480" y="59817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496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268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639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47920" y="407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859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29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331920"/>
          <a:ext cx="137160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31920"/>
                    <a:ext cx="13716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981080" y="4154400"/>
          <a:ext cx="153540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154400"/>
                    <a:ext cx="1535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81080" y="5068800"/>
          <a:ext cx="1143000" cy="117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5068800"/>
                    <a:ext cx="1143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371600" y="4191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istance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and 3 on a number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7:20Z</dcterms:modified>
  <cp:revision>199</cp:revision>
  <dc:subject/>
  <dc:title>No Slide Title</dc:title>
</cp:coreProperties>
</file>